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9DA71-72A6-4727-B195-4E5A5DB8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FD1EF-ED4B-409F-8C40-9AA34F8B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8A309-1AA1-42F1-9561-57309425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90C36-F69E-4766-B165-4D970B1A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94298-43E7-415D-B3C3-C820C042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CFD3D-10A4-4A24-AC9F-9D40E8A3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94E86-AD16-47F9-A770-93306C83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ED760-0A7A-4103-8F28-08324CB8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7A0FF-8CDD-453C-B969-F749D4C3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F776A-D9B2-43F9-85C6-CBFED909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41C4B-7632-4691-9E61-A4915748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71220-B9BF-48F4-AB95-35B965D3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2D4E9A-94BF-4CE8-A78A-1FB38530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921881-FDBC-4AE2-B401-992A83DD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4A028F-E860-414A-8367-DF83AB2B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F86DB5-3A90-43E5-81D2-AF1FEC38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BE7843-783C-4B36-B267-7326CF24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0D9A60-549B-494C-AB29-94BFF6EA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655F98-6A86-410A-8477-FCB0FB6B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682505-9509-4FC6-A310-E0AE45A5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372AC9-C2C2-44CF-892A-8B653E3C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8AE039-FE44-43DF-B8FF-90B9895D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0C2DC1-00DB-44CB-8D72-4911E0EF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2FA410-5451-42CF-94E6-29AD730A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D:%5Cppts%20from%20c%20drive%5Cppt%20collections%5Cleeds%5Ccoffee.ppt" TargetMode="External"/><Relationship Id="rId3" Type="http://schemas.openxmlformats.org/officeDocument/2006/relationships/hyperlink" Target="D:%5Cppts%20from%20c%20drive%5Cppt%20collections%5Cleeds%5CChoices&#8230;.ppt" TargetMode="External"/><Relationship Id="rId4" Type="http://schemas.openxmlformats.org/officeDocument/2006/relationships/hyperlink" Target="D:%5Cppts%20from%20c%20drive%5Cppt%20collections%5COrganising%20your%20studies%5Corganising%20choices.ppt" TargetMode="External"/><Relationship Id="rId5" Type="http://schemas.openxmlformats.org/officeDocument/2006/relationships/hyperlink" Target="Choices&#8230;.ppt" TargetMode="External"/><Relationship Id="rId6" Type="http://schemas.openxmlformats.org/officeDocument/2006/relationships/hyperlink" Target="name%20labels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D:%5Cppts%20from%20c%20drive%5Cppt%20collections%5Cleeds%5CChoices&#8230;.ppt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Choices&#8230;.ppt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1030320" indent="-28584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37304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612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884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05884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05884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7360" y="6329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rId2"/>
          </p:cNvPr>
          <p:cNvSpPr/>
          <p:nvPr/>
        </p:nvSpPr>
        <p:spPr>
          <a:xfrm>
            <a:off x="685800" y="609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3"/>
          </p:cNvPr>
          <p:cNvSpPr/>
          <p:nvPr/>
        </p:nvSpPr>
        <p:spPr>
          <a:xfrm>
            <a:off x="8001000" y="5715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4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5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6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43120" y="1530360"/>
            <a:ext cx="7759440" cy="2044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23DC-6722-410A-A56E-15518DE435F4}" type="datetime3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2C47-54F4-4378-B8AD-2C7BE6B495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H="1">
            <a:off x="7956360" y="152280"/>
            <a:ext cx="612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3399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8a0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a0c6a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99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101080" y="189000"/>
            <a:ext cx="574560" cy="1080720"/>
            <a:chOff x="8101080" y="189000"/>
            <a:chExt cx="574560" cy="1080720"/>
          </a:xfrm>
        </p:grpSpPr>
        <p:sp>
          <p:nvSpPr>
            <p:cNvPr id="89" name=""/>
            <p:cNvSpPr/>
            <p:nvPr/>
          </p:nvSpPr>
          <p:spPr>
            <a:xfrm>
              <a:off x="810108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2276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0108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2276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4516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67200" y="32940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101080" y="46944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22760" y="46944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45160" y="46944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467200" y="46944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589240" y="46944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01080" y="609120"/>
              <a:ext cx="86400" cy="10008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22760" y="609120"/>
              <a:ext cx="86400" cy="100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45160" y="609120"/>
              <a:ext cx="86400" cy="100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67200" y="609120"/>
              <a:ext cx="86400" cy="10008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1080" y="749520"/>
              <a:ext cx="86400" cy="100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22760" y="749520"/>
              <a:ext cx="86400" cy="100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45160" y="749520"/>
              <a:ext cx="86400" cy="1004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67200" y="749520"/>
              <a:ext cx="86400" cy="1004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9240" y="749520"/>
              <a:ext cx="86400" cy="10044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01080" y="88992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22760" y="8899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5160" y="8899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67200" y="8899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01080" y="10303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2760" y="10303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45160" y="10303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67200" y="10303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22760" y="117036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67200" y="117036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" name="" descr="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264360" y="6070680"/>
            <a:ext cx="287964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5B34-D3B2-47C7-8921-E00E3EF25B35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EC40-AB3C-4739-9BC7-A34285B7AC8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163" name="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9304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7708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6148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45520" y="327672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93040" y="4127400"/>
              <a:ext cx="20160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77080" y="4127400"/>
              <a:ext cx="20160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61480" y="4127400"/>
              <a:ext cx="201600" cy="2034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45520" y="4127400"/>
              <a:ext cx="201600" cy="2034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629560" y="4127400"/>
              <a:ext cx="201600" cy="2034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3040" y="441180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77080" y="441180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61480" y="441180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45520" y="441180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451640" y="1052640"/>
            <a:ext cx="1071720" cy="16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Understanding?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o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does ‘yes’ mea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does ‘no’ mea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w do you know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w can you show me that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can you do to show me that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can you do to show yourself that you 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 do understand…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- but I don’t care”. (attrib. Homer Simpson)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6208D-20F9-413F-8E05-903F5CC5834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 Rounded MT Bold"/>
              </a:rPr>
              <a:t>‘</a:t>
            </a:r>
            <a:r>
              <a:rPr b="1" lang="en-GB" sz="3600" spc="-1" strike="noStrike">
                <a:solidFill>
                  <a:srgbClr val="ffff00"/>
                </a:solidFill>
                <a:latin typeface="Arial Rounded MT Bold"/>
              </a:rPr>
              <a:t>Demonstrate your understanding of…’</a:t>
            </a:r>
            <a:endParaRPr b="1" lang="en-US" sz="36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But how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When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Where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om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at level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Just once, or several times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In just one way, or in several ways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at standard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For what purpose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A most unsatisfactory phrase – an excuse for not being clear with our students!!  Needs to be excised from all syllabus document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432CB-4F95-4A5A-AC71-C1CF855009E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Levels of understanding?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Faith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elief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nviction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Obsession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rust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221C4-7706-4619-BF89-DF6EC70752B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“</a:t>
            </a: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A little learning is a dangerous thing”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o no learning is safer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re learning is even more dangerous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d how about a little understanding of what has been learned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Is learning (noun) the same as understanding (noun)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earning (participle) certainly isn’t the same as understanding (participle)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2BA9E-D268-4AEA-A12D-2156EB41706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Rounded MT Bold"/>
              </a:rPr>
              <a:t>The peace which passeth all understanding (1)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o you understand?’ lecturer ask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(‘Understand what?’ thinks student. ‘What am I supposed to understand?’ ‘What will he/she think of me if I say “no”?’ ‘If I say “yes” will he/she ask me a difficult question to catch me out?’ ‘Why am I being asked this anyway?’ ‘Is it going to be important for me to understand this?’. ‘How will I know when I understand it?’. ‘What will I be able to do when I understand it?’. ‘How will I be able to demonstrate my understanding of it?’. ‘Do I actually have to understand it, or will it be enough simply to demonstrate my understanding of it, by doing something I can do, even when I don’t understand it?’. ‘Does he/she understand it, anyway?’)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mmm’ replies student (as soon as possible after all that thinking).    … continued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0ABD8-6AF2-490A-9155-C1F1DFA6E17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Rounded MT Bold"/>
              </a:rPr>
              <a:t>The peace which passeth all understanding (2)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o you don’t understand it then?’ alleges lecturer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ell, …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o you understand it well?’ smiles lecturer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about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h, good’ says lecturer. ‘I made myself clear then?’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f course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[Because of things like this, the word is best avoided in intended learning outcomes – and in life in general, except to get people thinking]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23ECD-3FA2-47CC-9796-F67A0204CF9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0066"/>
                </a:solidFill>
                <a:latin typeface="Arial"/>
              </a:rPr>
              <a:t>Knight, P and Yorke, M (2003:48) </a:t>
            </a:r>
            <a:r>
              <a:rPr b="1" i="1" lang="en-GB" sz="2600" spc="-1" strike="noStrike">
                <a:solidFill>
                  <a:srgbClr val="330066"/>
                </a:solidFill>
                <a:latin typeface="Arial"/>
              </a:rPr>
              <a:t>Assessment, learning and employability</a:t>
            </a:r>
            <a:r>
              <a:rPr b="1" lang="en-GB" sz="2600" spc="-1" strike="noStrike">
                <a:solidFill>
                  <a:srgbClr val="330066"/>
                </a:solidFill>
                <a:latin typeface="Arial"/>
              </a:rPr>
              <a:t> Maidenhead, UK SRHE/Open University Press.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uncertainty about what counts as understanding. Side-stepping some important philosophical issues, we suggest that a student who understands something is able to apply it appropriately to a fresh situation (demonstration by far transfer) or to evaluate it (demonstration by analysis). Understanding cannot be judged, then, by evaluating the learner’s retention of data or information; rather, assessment tasks would need to have the student apply data or information appropriatel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66"/>
                </a:solidFill>
                <a:latin typeface="Arial"/>
              </a:rPr>
              <a:t>Bowl, M (2003:90) </a:t>
            </a:r>
            <a:r>
              <a:rPr b="1" i="1" lang="en-GB" sz="2000" spc="-1" strike="noStrike">
                <a:solidFill>
                  <a:srgbClr val="330066"/>
                </a:solidFill>
                <a:latin typeface="Arial"/>
              </a:rPr>
              <a:t>Non-traditional entrants to higher education ‘they talk about people like me’</a:t>
            </a:r>
            <a:r>
              <a:rPr b="1" lang="en-GB" sz="2000" spc="-1" strike="noStrike">
                <a:solidFill>
                  <a:srgbClr val="330066"/>
                </a:solidFill>
                <a:latin typeface="Arial"/>
              </a:rPr>
              <a:t> Stoke on Trent, UK, Trentham Books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hardship was not understanding. When they give you an assignment and say it was on this handout. But my difficulty is not understanding what to do at first… I think that there’s a lack of my reading ability, which I can’t blame anyone for. I can only blame myself because I don’t like reading. And if you don’t read, you’re not going to learn certain things. So I suppose that’s to do with me…..it’s reading as well as putting what you read into your essay. You can read it and understand it. I can read and understand it, but then you have to incorporate it into your own words. But in the words they want you to say it in, not just: She said this, and this is the way it should be. The words, the proper language. Maybe it’s because I have difficulty pronouncing certain words. I avoid using them as they’re not familiar to me. When I’m writing, I find that because I’m not familiar with those words, it’s hard to write them… I haven’t really gone into it, because I don’t want them to say, you’re not supposed to be on this course, or anything like that. I’ve come too far now for them to say that, so I don’t like raising the issue. (Helen, brought up in Jama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RM Office System</dc:creator>
  <dc:description/>
  <dc:language>en-US</dc:language>
  <cp:lastModifiedBy>Brown</cp:lastModifiedBy>
  <dcterms:modified xsi:type="dcterms:W3CDTF">2008-03-17T11:14:19Z</dcterms:modified>
  <cp:revision>219</cp:revision>
  <dc:subject/>
  <dc:title>Towards Active Learning</dc:title>
</cp:coreProperties>
</file>